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98287-458D-4338-BFE9-78ADC5AED8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9F548-BDBD-46A2-9134-D747AB639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, coerc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FBB9B-A9B8-4E0D-9130-CA6DAAD13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650-CA01-4A3C-93C9-A176F0AF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10F-06A6-41C4-B53B-84BE442C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B6D-99F8-4914-A90C-ECA130D9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D8C-1E59-4336-BBE6-F4EF09A9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B46-C06B-4DD5-BF72-9C71D4F2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E45-8965-4F7C-87A6-5E8DDD4F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5EE-C612-4333-89D1-81237090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A7D-58D8-4815-BFAA-2186E7FE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CC6-A634-4AD7-BC35-550586AF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2A7-9943-46C8-8F58-E9B0A3F2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7ED-33D4-4F09-B9D0-A50970F9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916-749B-4FD6-BE66-98ABC7F9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F93E9-0B04-47EA-BA06-2419BF534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EBD3C-EE47-4F6F-9AF9-35FE357B5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Up – Top ½ 15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nking back on the Chicano Movement…wha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ivic Action Strategi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people in this movement use to create change? (list 6+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 Organizing a m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oughout this year, while looking at grassroots movements, we’ve talked about many strategies for civic action…so what can we add to this list? (How many more can we add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400" y="274320"/>
            <a:ext cx="874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Watch Kony 2012 -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nswer on Page 15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5400" y="1417680"/>
            <a:ext cx="529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oes Director, Jason Russell, explain Joseph Kony to his three-year-old s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details could you add to this that may not be appropriate to tell a child, but are important to tell a fellow youth or adul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does LRA stan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did the U.S. government (representatives) say (10 years ago) it was impossible for the U.S. government to get involved in Ugand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type of power do celebrities have? And what type of power do policy makers have? What type of power do the people involved with this campaign hav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481720" y="1917720"/>
            <a:ext cx="344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043840" cy="71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 – Bottom ½ 15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trategies can we add to our list of Civic Action Strategies used by these youth activists turned professional film maker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ow many can we add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1:06:31Z</dcterms:created>
  <dc:creator>Teacher</dc:creator>
  <dc:description/>
  <dc:language>en-US</dc:language>
  <cp:lastModifiedBy>Teacher</cp:lastModifiedBy>
  <dcterms:modified xsi:type="dcterms:W3CDTF">2012-03-15T00:56:10Z</dcterms:modified>
  <cp:revision>6</cp:revision>
  <dc:subject/>
  <dc:title>Slide 1</dc:title>
</cp:coreProperties>
</file>